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онтроль за сроками исполнения докумен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Проверка хода исполнения  документов осуществляется обычно в следующие сроки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96800"/>
            <a:ext cx="82296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последующих лет - не реже одного раза в го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последующих месяцев текущего года - не реже одного раза в месяц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текущего месяца - каждые 10 дней и за 5 дней до истечения срока исполн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Этапы снятия документов с контроля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744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ятие руководителем решения о снятии документа с контроля и передача распоряжения об этом службе ДО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ки отметки об исполнении в РКК (регистрационно-контрольную карточку) и на документе информирования контрольной службы организации об исполнении документа, находящегося на централизованном контрол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становка РКК из контрольной картотеки (раздела) в справочную карточку (раздел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шивка документа, имеющего отметку об исполнении, в дел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ичины  неисполнения документов в срок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47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ишком высокая степень централизации полномоч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грузка исполнителей и руководителей разно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исциплинированность сотрудников и подведомственных организа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статочные сроки для качественного испол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рациональная система документообор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статок технических средств оформления и тиражирования документов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2520"/>
            <a:ext cx="82296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числите основные задачи, решаемые в процессе контроля сроков исполн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осуществляет контроль сроков исполнения документ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уровни, на которых ведется контроль сроков исполн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числите технологии контрольных опера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ие документов с контр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бщение, анализ и использование данных об исполнении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   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.  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  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 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D0A8-80BC-49EF-8EEE-F98BF9672FF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FB6F-7552-4EBD-82AA-C3133B7B6ED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92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2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Цель контроля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— содействие своевременному и качественному исполнению решений и заданий руководства предприятия или структурного подраздел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Этапы контроль за исполнением документов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ановку документов на контр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у своевременности доведения документов до исполнител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варительную проверку и регулирование хода ис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т и обобщение результатов контроля исполнения доку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аправления контрольной деятельности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04156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онтроль за исполнением документов по существу поставленных в них вопро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контроль за сроками исполнения документов и  за соответствием формы создаваемых документов их содержа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дачи контроля за исполнением документов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356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ка документа на контро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варительная проверка и регулирование хода исполн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ие их с контро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авление исполненного документа в дел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т, обобщение и анализ хода и результатов исполн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ирование руководителей о результатах обобщения данных в целях своевременного и качественного исполнения поручений, зафиксированных в документ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предложений по ускорению документопотоков и укреплению исполнительской дисципл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Уровни контроля за исполнением документов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3212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воевременности исполнения поручений и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формы создаваемых документов их содержа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применяемых унифицированных форм и бланков действующим нормативам и образц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уровня и формы подтверждения каждого документа, соответствия подписей их расшифровк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всех экземпляров на идентич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, включающий анализ существа и полноты исполнения поручений, заданий, ответов на запро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Сроки исполнения документов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36988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ипов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лов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Задачи текущего контроля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ановка документов на контр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картотеки контролируемых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е карточки контролируемого документа исполнител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ирование исполнителя о сроке исполнения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2:10:35Z</dcterms:modified>
  <cp:revision>138</cp:revision>
  <dc:subject/>
  <dc:title>Lecture Template </dc:title>
</cp:coreProperties>
</file>